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B5A-08E8-49BD-8585-A1A8C01D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6B9-B516-40B0-9115-F14D647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4E7-1EFD-4B4C-A23D-0CDD77E9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D4F-0BAB-4D7E-863B-293797C2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5E5B-3C4F-42EF-B5B4-612F7E89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981-75F1-44F5-BC79-3691F2A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9990-67CF-4123-A3D8-AD2A1E54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01F2-FFBE-4CC0-8EA7-478F3E9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CDB-7839-438A-903B-65D4A5E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093A-27F9-4D44-B7C0-7112EE8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40ED-3E96-4856-B354-369C765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246-6E5D-49E2-8CA8-91B2286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7286-A9DF-4C83-B183-A9F7957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706-CDF7-47DE-B914-39B75E3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5B8F-FEE7-4886-97A8-92FBE52E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DBD-7BF9-4E71-95EA-38110E58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BD0D-9BAF-46C4-ADA3-6FD402D3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DD7-7C76-4D6F-BAB2-5B7A357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BAD-A8D5-491F-A7DB-470895EA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2B4-AF79-4E2C-AF5B-0924810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C95-7BF8-49D5-BA90-7F1C590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4FD-2A45-4216-8C0D-8B8A473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40F-B313-487D-8A80-85DDECA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A30-A2F1-41C1-9352-F33E478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0DE4-F255-4C61-A2C6-D3AD9E3AD9B1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CFE-42AE-4474-9E27-CE36DD0C3B3A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em.onet.pl/wiem/00cdd6.html" TargetMode="External"/><Relationship Id="rId3" Type="http://schemas.openxmlformats.org/officeDocument/2006/relationships/hyperlink" Target="http://wiem.onet.pl/wiem/00f948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b9efee"/>
                </a:solidFill>
                <a:latin typeface="Garamond"/>
              </a:rPr>
              <a:t>Układ mięśniowy człowie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71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Opracował: Ireneusz Grzegoc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dol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uda – widok z przod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47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dol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uda – widok z tył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545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dol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podudzia – widok z przod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47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dol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podudzia – widok z tył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543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Mięśnie głowy i szyi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szyi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47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Mięśnie głowy i szyi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twarzy – rysunek 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Mięśnie głowy i szyi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mięśnie głowy – rysunek 2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Układ mięśniowy</a:t>
            </a:r>
            <a:br>
              <a:rPr sz="4400"/>
            </a:b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układ czynny ruch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4132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espól narządów kurczliwych, zbudowanych z </a:t>
            </a:r>
            <a:r>
              <a:rPr b="0" lang="pl-PL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tkanki mięśniowej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oprzecznie prążkowanej, poruszający ruchomo zestawionym szkiele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7214040" y="5334120"/>
            <a:ext cx="875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ięce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1244520"/>
            <a:ext cx="8229240" cy="1650960"/>
            <a:chOff x="457200" y="1244520"/>
            <a:chExt cx="8229240" cy="1650960"/>
          </a:xfrm>
        </p:grpSpPr>
        <p:cxnSp>
          <p:nvCxnSpPr>
            <p:cNvPr id="120" name="_s36882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6056640" y="469800"/>
              <a:ext cx="229320" cy="319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36878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4989960" y="1536480"/>
              <a:ext cx="229320" cy="106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36877"/>
            <p:cNvCxnSpPr>
              <a:stCxn id="126" idx="0"/>
              <a:endCxn id="122" idx="2"/>
            </p:cNvCxnSpPr>
            <p:nvPr/>
          </p:nvCxnSpPr>
          <p:spPr>
            <a:xfrm flipH="1" flipV="1" rot="5400000">
              <a:off x="3924720" y="1536840"/>
              <a:ext cx="229320" cy="106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36876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2857320" y="469800"/>
              <a:ext cx="229320" cy="3200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2" name="_s36872"/>
            <p:cNvSpPr/>
            <p:nvPr/>
          </p:nvSpPr>
          <p:spPr>
            <a:xfrm>
              <a:off x="3330360" y="1244520"/>
              <a:ext cx="2482920" cy="711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Układ mięśniowy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Człowie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36873"/>
            <p:cNvSpPr/>
            <p:nvPr/>
          </p:nvSpPr>
          <p:spPr>
            <a:xfrm>
              <a:off x="457200" y="2184480"/>
              <a:ext cx="1828440" cy="711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Mięśn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tułow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36874"/>
            <p:cNvSpPr/>
            <p:nvPr/>
          </p:nvSpPr>
          <p:spPr>
            <a:xfrm>
              <a:off x="2590920" y="2184480"/>
              <a:ext cx="1828080" cy="711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Mięśni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kończyn górny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36875"/>
            <p:cNvSpPr/>
            <p:nvPr/>
          </p:nvSpPr>
          <p:spPr>
            <a:xfrm>
              <a:off x="4724280" y="2184480"/>
              <a:ext cx="1828440" cy="711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Mięśni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kończyn dolny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36881"/>
            <p:cNvSpPr/>
            <p:nvPr/>
          </p:nvSpPr>
          <p:spPr>
            <a:xfrm>
              <a:off x="6858360" y="2184480"/>
              <a:ext cx="1828080" cy="711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Mięśn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aramond"/>
                </a:rPr>
                <a:t>głowy i szy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Mięśnie tułowia</a:t>
            </a:r>
            <a:br>
              <a:rPr sz="4000"/>
            </a:b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grzbie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Mięśnie tułowia</a:t>
            </a:r>
            <a:br>
              <a:rPr sz="4000"/>
            </a:b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przód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gór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widok z przod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Kończyna górn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widok z tył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Ręk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ysunek 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7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Ręka</a:t>
            </a:r>
            <a:br>
              <a:rPr sz="40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ysunek 2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5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cownia_101</cp:lastModifiedBy>
  <dcterms:modified xsi:type="dcterms:W3CDTF">2002-10-11T09:38:55Z</dcterms:modified>
  <cp:revision>3</cp:revision>
  <dc:subject/>
  <dc:title>PowerPoint Presentation</dc:title>
</cp:coreProperties>
</file>